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AB6EA-7F57-4ED0-96F4-02491753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A9494-93EF-404D-BEAA-3B0CF335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24F50-4452-49EB-9258-52DAB9A9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61915-95E3-4258-8EAF-40BC1E2D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FA25C-5573-4D80-9D8E-1CEA99C7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FF4B1-A94D-4FD0-9204-D6E3C352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14591-323F-494F-9A78-110CED2E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00DBE-76BE-4E8B-B60A-86BC7B5F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3D5A3-568A-4935-847C-F2324CFF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89E4F-56AA-4965-90B1-783904B3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D6034-66EE-440D-A92B-8E1B0FCD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835BF-80AC-4186-AAC9-F4BF240A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DDCEF-84FD-4A64-8ECB-74FE0297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869FC-FFFE-43BA-89A9-F415AADC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46BB5-416C-4213-9EA8-8D341D51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08F88-3829-409E-B3CB-17A2F86E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D8E89-D584-48DE-B89F-4E9D4E91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1D7E6-AF23-436B-9968-43A2CC99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493DB-07F4-44DF-8148-BDC9D68B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30E89-C30E-45D0-A0D8-64C4C103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55880-CDB6-4041-97D5-EB457F1C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C73E1-EACE-489B-A4BB-4E81FFAC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BF8CE-195E-4BE4-AFF3-A1D12765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28965-524D-4113-900B-DCDDF496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F531B-6573-4429-9D29-29A7B1C6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71800-A2D0-46C8-9FA4-36F0ACAC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77336-3DEC-43EF-89BF-454F2D96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958A7-6C12-4280-9662-C83DF368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2711C-CF06-4FD4-B13D-79697997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C0CA1-5467-4EBA-BEDD-A7AC986C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A8F12-4E06-40D8-B7CB-F09E6C33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4BD2D-256F-4A8F-94C2-76EC8BCF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A7036-0C2B-4A2C-A431-EF53EB67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D3F51-5CF6-4988-AC6C-B3EF8A3B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E724-A971-4A60-9A93-AC8877AF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A77DB-AF97-42D3-82B7-A01DC757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91699-66FC-423F-96BF-95B0BD86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15948-A223-4271-A190-5D510E55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0D4826-C9B0-4839-BF97-CD76CE31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D8D094-424B-4697-B55B-BBC8F8CD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6380C5-6BC6-46F6-922B-8768355D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404F84-4B41-4218-B2B9-C8C60C06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094CC5-24C1-4306-BC67-F39CD4B1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74DC23-01CD-4F2E-B479-781F6BA1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7C0808-C722-4CBF-9BC9-2F008AC3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160A-F0BD-4E14-BFA7-5C7C4F24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CA6169-11D0-4F9C-BB2B-5ED8A1B5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9F706B-A255-42A6-A21D-9ACB2CA5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0AA82C-405D-452F-9050-D724067D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896639-2D2E-448F-BF2D-F964A49F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05958A-C95D-42D1-9A6A-2FC129B1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8BEA8-CDBA-41FA-827B-F25D3A9E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D7DA7-ED06-495F-B7CC-ABAF2FD0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293ECB-99FC-4966-9F33-73114EB3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5E1C1-7495-45A8-A4E3-61D6F184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0E670E-8FC3-495E-B497-9D0D430F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FB1A-A3E2-44B6-98FD-9572DC4F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0BF7D5-4956-4575-BF0C-176C9209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0670A0-ACB3-4683-966C-7B9971D4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0D316-194E-42CA-8E33-67EB9F1F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34216-6220-4276-AE50-8EB1EF59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92763-4C94-48EE-B6BA-B8AFAF28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121D1C-58F8-4E72-8958-465AE843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D59B1-82D8-4C43-9266-F80652F3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A89D64-3F27-4B21-B590-C2C4F1ED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84A179-2551-4760-AFA6-D776BBAC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8508AA-EC42-47DE-9591-86AE8F33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8D94-58AD-4DC1-876F-70CEB47F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2D3A8-F606-45E7-B286-9C994B72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224BE-4D64-46F8-BD96-E470791B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C4A7E-ACDE-49F1-8364-068D725C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876857-2859-4059-8E13-E12C25D8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D6A18F-A8C7-4409-8BCC-4787EB80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8E418C-029B-4E03-9240-4D513305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AA10D3-127C-4A18-ADB3-DC926731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F979E-7920-4315-AB39-A613FF7C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17E7E8-8C6E-43D4-8796-CD96FA11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C2E7EE-41E9-4209-A7B8-D086AE3E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F083-AD81-4D8D-9429-97A61178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F37B5B-A054-4200-B322-2E11C729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C4A33E-89EC-4BB7-87F6-DC16A5D3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4212B1-F044-40B0-AA5C-689BB256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494568-2D71-43AE-AA29-10873934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C5C596-9234-48B9-8A8B-3B72AEB6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742EEE-3D0C-4968-919C-9BFD2576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C21A49-11CC-46EA-AE0F-E1ABB73C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8DDE43-D39B-427B-8873-E79F306D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BF0365-2A4A-42A0-B865-01219FA1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205C53-5E5E-463C-B29F-D7BBBCAD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20B9-3810-4F62-926C-B93A02E1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755C0B-7F53-4714-AA47-0C01474B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0232A2-6DA4-40B9-9B69-02C3766D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3CBB4F-0D95-43F4-BD6C-4E44EEDE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6AEE81-DC7D-412A-B843-72808037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FA3B98-16F1-46F0-889E-A690978B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58B16B-D21C-48D8-AC62-668E3796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CF7283-4D2D-42F4-996F-8941A051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4646C7-205B-480D-B402-EC678E53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E92CAF-D27D-4114-9441-9B4A20AF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D5D379-E9F1-4FE7-A279-F3F925BA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70AC-59CB-41CE-BD4F-6785EBF4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431E16-68F4-4687-AD77-72CEC7E9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54DF71-30A6-4A2B-8FC5-792138C7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3306FB-6C73-4385-A4E7-7C1251FB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58F86-95D0-4E58-94FF-8760630A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6C9A-75A4-4D1F-97A4-A3F9E7C3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04E9-035C-4BB3-A676-1A04DB6D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B5AA-D341-4F56-A110-8F3819DB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A8A2-4AEF-4A72-A9CD-182207AB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E4B8-19D6-44CE-8962-33DB98DA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E5ED-6F54-4448-B11D-F25C87A0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11C1E-D6E9-4ED0-AFB8-02D90291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59577-FED8-4D6E-BA09-84D229B2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D7584-3E71-418E-87A4-D15F51AC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C295E-13EE-4475-B486-BF384547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804A0-3A82-438E-BF6D-8F0D9711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9FCC9-BE01-44F3-B8D9-6A00176A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5512C-2D0F-4D86-988E-48E2DEA4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7920D-BCA8-4981-9470-83B413A1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6ABE2-122E-4AA9-820D-FC6E4F0D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1CD5B-BED0-40F7-83AF-FD5824AE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BA131-53CA-4A80-BA41-34774B94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111F2-769D-4E8F-A6EA-7E6904E6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675B5-3A5D-43DF-982E-72538142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7382A-2E63-4C2A-9494-5C9063C4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4C0AF-CB0B-48C5-A62E-18FCC700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A2925-A6E6-4BE7-A8D2-72A39B4F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04714-663C-49D0-9BFD-11FF78C3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C8F43-33E2-4ADF-85A0-F5DF6FC0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800BC-85CB-4627-A3B5-30BD6AB9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72B4B-B82E-4FAF-8000-97F4B1DD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8D35D-A38F-47A7-856E-5022E2EB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3EF99-1B4A-4052-8797-D1178A4E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C6686-6919-4D24-9E17-53D74C31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FBC5C-274F-494C-8343-0B9CB536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75D6D-9C89-42D3-9176-A7D4D3C1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FE09E-CACF-430E-81A8-F0ECB92D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DCB47-CE4D-4080-8060-2D837503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7D815-B2CB-481A-9DDC-97163F66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8D1BE-6723-4544-BF1F-198081E1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EFE83-B3BE-4EE0-852F-AE10880C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8F4D0-AF07-4947-B27C-599A934A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D3672-2FAB-49B2-BF0F-C1FFC1FD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0969F-3745-4CC1-A84B-9D4F95F3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86251-99E2-4197-9C28-C3E1A04A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4BEDD-1C42-41A5-BFFD-AB296805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7FAED-6EC2-4471-B98F-56187EDA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2C5C3-784A-4F7C-B8ED-1D66BAE1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D7F73-FCFF-468D-B7BD-89535E13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916F8-63AB-41B1-8AA3-7C0D2EC4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D4508-4836-4523-A805-9886134F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7080E-9190-431E-A2D5-7324E4D9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E1BC7-5200-473E-95A9-89900D3C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96D75-073B-409A-93E7-F962D4FF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BE326-D7DD-4581-A262-E6E63F43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F37F1-CAB3-47F3-8C89-1B68122E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89988-6A29-41DD-9554-E70C97E1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85E88-E4D9-4E29-B6F7-3FA24F54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C0445-C3D6-44F0-B042-A14CFE43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098FC-D9C4-4188-9B36-77416617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C3D62-7CFC-4C1E-AA2C-95DB3606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CCE2D-31CB-4321-9292-AD6ADADF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DDB2F-7A9F-4940-B551-537922A0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01BF0-22B7-4FFC-8C95-94D3A2CB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AFBFD-346F-4D86-A059-AA35205F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E4E3E-2B8E-4E2F-BE41-CC60D42F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9C6FC-85F0-4607-BCF6-9446345D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7A4C1-4802-4659-9B7D-BFDF4FF1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813C7-3584-4569-89C0-45A68082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8EA14-C2D7-4C3C-9FCA-067F4151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07713-1472-4C1F-9ECB-AC2A7CDD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8F0EC-01BC-4936-8D7E-8A282282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15792-65AF-4C1E-9BBC-C33F7657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E83E3-7EB5-404C-B0B7-F06DEE66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7405C-CC9D-43CE-8F46-4922CFA6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2F741-16E1-4470-9EB7-F72BABB0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75C62-8932-40DA-8248-2AF26DB3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56EEF-BF10-4232-8777-9DCCFE7B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73946-59BF-47E5-A612-5F26D678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C9FDA-80A5-4E0A-BA96-438C8FB5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BD8DC-9E25-49CA-BB40-B2BA1EBC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FCEF5-80E2-4635-A9C5-D3F45906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F3763-14C0-4F55-B2DA-A74ACE7D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13944-EDEA-4AD4-8234-769B5CAE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96DE5-70A0-4730-8EB8-30FD7F85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B1F7B-72EF-41C6-94E5-290A8C9E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A5BA6-242F-41D9-B968-00133975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49831-9CEC-4876-AE43-90E38EAC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F24B3-C46F-4140-84F8-7E2D85B1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BAD26-FD77-42C1-A002-FB4B543C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F57E8-F1F2-4C6B-A743-8087EE19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3975B-C579-453A-8E4A-FE2562CF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57.xml"/><Relationship Id="rId32" Type="http://schemas.openxmlformats.org/officeDocument/2006/relationships/slideLayout" Target="../slideLayouts/slideLayout158.xml"/><Relationship Id="rId33" Type="http://schemas.openxmlformats.org/officeDocument/2006/relationships/slideLayout" Target="../slideLayouts/slideLayout159.xml"/><Relationship Id="rId34" Type="http://schemas.openxmlformats.org/officeDocument/2006/relationships/slideLayout" Target="../slideLayouts/slideLayout160.xml"/><Relationship Id="rId35" Type="http://schemas.openxmlformats.org/officeDocument/2006/relationships/slideLayout" Target="../slideLayouts/slideLayout161.xml"/><Relationship Id="rId36" Type="http://schemas.openxmlformats.org/officeDocument/2006/relationships/slideLayout" Target="../slideLayouts/slideLayout162.xml"/><Relationship Id="rId37" Type="http://schemas.openxmlformats.org/officeDocument/2006/relationships/slideLayout" Target="../slideLayouts/slideLayout163.xml"/><Relationship Id="rId38" Type="http://schemas.openxmlformats.org/officeDocument/2006/relationships/slideLayout" Target="../slideLayouts/slideLayout164.xml"/><Relationship Id="rId39" Type="http://schemas.openxmlformats.org/officeDocument/2006/relationships/slideLayout" Target="../slideLayouts/slideLayout165.xml"/><Relationship Id="rId40" Type="http://schemas.openxmlformats.org/officeDocument/2006/relationships/slideLayout" Target="../slideLayouts/slideLayout166.xml"/><Relationship Id="rId41" Type="http://schemas.openxmlformats.org/officeDocument/2006/relationships/slideLayout" Target="../slideLayouts/slideLayout167.xml"/><Relationship Id="rId4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726D-110A-4792-8384-364E4E481D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93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93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93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3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3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4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4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4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4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5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5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5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6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6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6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7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7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7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7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8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8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99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99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9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00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0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0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00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00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01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01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01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02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02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02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2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3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3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3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03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04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5463-961E-4312-B5F2-848B2D7F5AA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60EE-3FA8-47BC-92F3-769A99A7A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1CF5-1F28-4101-B569-C2BE29B39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18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18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9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9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9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0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0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2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906E-5BC4-4D36-A92C-8FA1547367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28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28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28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28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28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9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0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30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2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0695-88FC-442C-B1A1-EA90FD513F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1"/>
    <p:sldLayoutId id="2147483819" r:id="rId32"/>
    <p:sldLayoutId id="2147483820" r:id="rId33"/>
    <p:sldLayoutId id="2147483821" r:id="rId34"/>
    <p:sldLayoutId id="2147483822" r:id="rId35"/>
    <p:sldLayoutId id="2147483823" r:id="rId36"/>
    <p:sldLayoutId id="2147483824" r:id="rId37"/>
    <p:sldLayoutId id="2147483825" r:id="rId38"/>
    <p:sldLayoutId id="2147483826" r:id="rId39"/>
    <p:sldLayoutId id="2147483827" r:id="rId40"/>
    <p:sldLayoutId id="2147483828" r:id="rId41"/>
    <p:sldLayoutId id="2147483829" r:id="rId4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39C7-A902-490E-848A-A40391ECB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6BBE-E6C0-49CF-8206-E8BDE79AF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3D2F-19ED-473B-A8B9-C7DDACF7D1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DF3F-5195-41B2-B945-BF7BDC4D84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91BD-C412-41C8-885D-42AC94BADF2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8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45A1-0EAA-4C4C-A760-63B41F92B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4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356C-A3F4-4449-8B85-D5B5C563B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0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3958-7036-4292-8793-2CD7A34B87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7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9064-B96F-4BC7-8D10-4B76D79A17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75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5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5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6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6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6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7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7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7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8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80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82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3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3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84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84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84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85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85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85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1BF6-D7AE-4E1F-BDF2-4A44DB7F386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MS900069610%5B1%5D.wav" TargetMode="External"/><Relationship Id="rId3" Type="http://schemas.microsoft.com/office/2007/relationships/media" Target="file:///tmp/home/.config/libreoffice/4/user/gallery/MS900069610%5B1%5D.wav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ELPHRG01.wav" TargetMode="External"/><Relationship Id="rId2" Type="http://schemas.microsoft.com/office/2007/relationships/media" Target="file:///tmp/home/.config/libreoffice/4/user/gallery/ELPHRG01.wav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La Mansion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Por Nimish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8" name="" descr=""/>
          <p:cNvPicPr/>
          <p:nvPr/>
        </p:nvPicPr>
        <p:blipFill>
          <a:blip r:embed="rId1"/>
          <a:stretch/>
        </p:blipFill>
        <p:spPr>
          <a:xfrm>
            <a:off x="1295280" y="3127320"/>
            <a:ext cx="6172200" cy="3032280"/>
          </a:xfrm>
          <a:prstGeom prst="rect">
            <a:avLst/>
          </a:prstGeom>
          <a:ln w="0">
            <a:noFill/>
          </a:ln>
        </p:spPr>
      </p:pic>
      <p:pic>
        <p:nvPicPr>
          <p:cNvPr id="145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992" fill="hold"/>
                                        <p:tgtEl>
                                          <p:spTgt spid="14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59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Man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 una mansion. Es muy estupend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2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5105520" cy="3048120"/>
          </a:xfrm>
          <a:prstGeom prst="rect">
            <a:avLst/>
          </a:prstGeom>
          <a:ln w="0">
            <a:noFill/>
          </a:ln>
        </p:spPr>
      </p:pic>
      <p:pic>
        <p:nvPicPr>
          <p:cNvPr id="146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5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5897" fill="hold"/>
                                        <p:tgtEl>
                                          <p:spTgt spid="1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Cocina 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ocina. La cocina es muy bel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67" name="" descr=""/>
          <p:cNvPicPr/>
          <p:nvPr/>
        </p:nvPicPr>
        <p:blipFill>
          <a:blip r:embed="rId4"/>
          <a:stretch/>
        </p:blipFill>
        <p:spPr>
          <a:xfrm>
            <a:off x="4495680" y="2101680"/>
            <a:ext cx="4419720" cy="3956400"/>
          </a:xfrm>
          <a:prstGeom prst="rect">
            <a:avLst/>
          </a:prstGeom>
          <a:ln w="0">
            <a:noFill/>
          </a:ln>
        </p:spPr>
      </p:pic>
      <p:pic>
        <p:nvPicPr>
          <p:cNvPr id="1468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3629" fill="hold"/>
                                        <p:tgtEl>
                                          <p:spTgt spid="14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129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1571" fill="hold"/>
                                        <p:tgtEl>
                                          <p:spTgt spid="1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66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omed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un comedor. Es muy  grande.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1" name="" descr="Luxurious Dining Room Decorations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3733560"/>
          </a:xfrm>
          <a:prstGeom prst="rect">
            <a:avLst/>
          </a:prstGeom>
          <a:ln w="0">
            <a:noFill/>
          </a:ln>
        </p:spPr>
      </p:pic>
      <p:pic>
        <p:nvPicPr>
          <p:cNvPr id="1472" name="" descr=""/>
          <p:cNvPicPr/>
          <p:nvPr/>
        </p:nvPicPr>
        <p:blipFill>
          <a:blip r:embed="rId2"/>
          <a:stretch/>
        </p:blipFill>
        <p:spPr>
          <a:xfrm>
            <a:off x="6515280" y="3713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629" fill="hold"/>
                                        <p:tgtEl>
                                          <p:spTgt spid="1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 cuarto. El cuarto es muy fabuloso.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75" name="" descr=""/>
          <p:cNvPicPr/>
          <p:nvPr/>
        </p:nvPicPr>
        <p:blipFill>
          <a:blip r:embed="rId1"/>
          <a:stretch/>
        </p:blipFill>
        <p:spPr>
          <a:xfrm>
            <a:off x="3429000" y="3227400"/>
            <a:ext cx="4714920" cy="3392640"/>
          </a:xfrm>
          <a:prstGeom prst="rect">
            <a:avLst/>
          </a:prstGeom>
          <a:ln w="0">
            <a:noFill/>
          </a:ln>
        </p:spPr>
      </p:pic>
      <p:pic>
        <p:nvPicPr>
          <p:cNvPr id="147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43" fill="hold"/>
                                        <p:tgtEl>
                                          <p:spTgt spid="1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a Sal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sala.La sala es muy mode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9" name="" descr=""/>
          <p:cNvPicPr/>
          <p:nvPr/>
        </p:nvPicPr>
        <p:blipFill>
          <a:blip r:embed="rId1"/>
          <a:stretch/>
        </p:blipFill>
        <p:spPr>
          <a:xfrm>
            <a:off x="2057400" y="2895480"/>
            <a:ext cx="4667400" cy="3448080"/>
          </a:xfrm>
          <a:prstGeom prst="rect">
            <a:avLst/>
          </a:prstGeom>
          <a:ln w="0">
            <a:noFill/>
          </a:ln>
        </p:spPr>
      </p:pic>
      <p:pic>
        <p:nvPicPr>
          <p:cNvPr id="148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7893" fill="hold"/>
                                        <p:tgtEl>
                                          <p:spTgt spid="1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B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b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.El b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 antiquo y vie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3" name="" descr=""/>
          <p:cNvPicPr/>
          <p:nvPr/>
        </p:nvPicPr>
        <p:blipFill>
          <a:blip r:embed="rId2"/>
          <a:stretch/>
        </p:blipFill>
        <p:spPr>
          <a:xfrm>
            <a:off x="1219320" y="2657520"/>
            <a:ext cx="6286320" cy="4200480"/>
          </a:xfrm>
          <a:prstGeom prst="rect">
            <a:avLst/>
          </a:prstGeom>
          <a:ln w="0">
            <a:noFill/>
          </a:ln>
        </p:spPr>
      </p:pic>
      <p:pic>
        <p:nvPicPr>
          <p:cNvPr id="148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90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3283" fill="hold"/>
                                        <p:tgtEl>
                                          <p:spTgt spid="14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Pati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 un patio peque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Tahoma"/>
              </a:rPr>
              <a:t>ñ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487" name="" descr=""/>
          <p:cNvPicPr/>
          <p:nvPr/>
        </p:nvPicPr>
        <p:blipFill>
          <a:blip r:embed="rId2"/>
          <a:stretch/>
        </p:blipFill>
        <p:spPr>
          <a:xfrm>
            <a:off x="1752480" y="2895480"/>
            <a:ext cx="5000760" cy="3333960"/>
          </a:xfrm>
          <a:prstGeom prst="rect">
            <a:avLst/>
          </a:prstGeom>
          <a:ln w="0">
            <a:noFill/>
          </a:ln>
        </p:spPr>
      </p:pic>
      <p:pic>
        <p:nvPicPr>
          <p:cNvPr id="148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68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68" fill="hold"/>
                                        <p:tgtEl>
                                          <p:spTgt spid="14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68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68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3554" fill="hold"/>
                                        <p:tgtEl>
                                          <p:spTgt spid="1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Jardi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jardin muy bell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1" name="" descr=""/>
          <p:cNvPicPr/>
          <p:nvPr/>
        </p:nvPicPr>
        <p:blipFill>
          <a:blip r:embed="rId2"/>
          <a:stretch/>
        </p:blipFill>
        <p:spPr>
          <a:xfrm>
            <a:off x="1447920" y="2590920"/>
            <a:ext cx="6095880" cy="4038480"/>
          </a:xfrm>
          <a:prstGeom prst="rect">
            <a:avLst/>
          </a:prstGeom>
          <a:ln w="0">
            <a:noFill/>
          </a:ln>
        </p:spPr>
      </p:pic>
      <p:pic>
        <p:nvPicPr>
          <p:cNvPr id="149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5" dur="2000" fill="hold"/>
                                        <p:tgtEl>
                                          <p:spTgt spid="1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534" fill="hold"/>
                                        <p:tgtEl>
                                          <p:spTgt spid="1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39:55Z</dcterms:created>
  <dc:creator>gargnim</dc:creator>
  <dc:description/>
  <dc:language>en-US</dc:language>
  <cp:lastModifiedBy>gargnim</cp:lastModifiedBy>
  <dcterms:modified xsi:type="dcterms:W3CDTF">2011-10-27T13:35:31Z</dcterms:modified>
  <cp:revision>15</cp:revision>
  <dc:subject/>
  <dc:title>La Casa Nimish</dc:title>
</cp:coreProperties>
</file>